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98EB-57BC-4E00-B025-45B642782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4CC-2059-4C92-94CE-A1A3D14B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692E-00DF-4DEF-82AE-97EDF9AB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378A-1032-4378-9C27-96410BB1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C12A-04B0-4924-926D-06A415A79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7F9E-145A-491C-AE39-941F439B6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839E-0465-40CE-8EEB-A4FB423A0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9623-E5FE-400E-9B61-8B6033C1B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6AFF-2705-4E6F-8DAA-E54D3FC1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3782-596D-45A5-8182-0D1E35F45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9480" y="65412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2FF3-7C62-49C0-90B4-8D5592EE9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A39-E1E7-4C42-B3EF-FE27433E1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7C57-973C-4389-ABDB-E1F7C4844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6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9EF7-7B09-4047-A19E-D95B1741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04560" y="4218120"/>
            <a:ext cx="65530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7CEC-DD6A-46A1-A49C-85BA9C0EA3C9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A2BE-2741-4816-98F3-2EB3158D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D25-CC6A-47AA-8D49-519B688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DB8-5B77-41A1-A16A-8403E897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7622-B9B2-4211-BE41-298D4CCA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30DB-AEDD-454C-83AF-918C79DB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CAD-BC16-46CD-BC63-1FD32684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93F-5BE8-41A9-9231-76591859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930-0F37-4662-82CB-B706897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235-7643-4970-8101-B2B29F9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C8F-BAA4-4428-A98A-B3A642BA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F15-758E-4438-8003-087E1EB3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074-6C68-44E0-BF6A-B92C9ABA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E24-8C28-443E-8FC2-D8230A1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CB21-8A94-4A1C-80B0-0D83024C1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2000"/>
            </a:b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8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ТРУМА, ТИРЕОИДИТИС, ТУМОРИ ШТИТАСТЕ ЖЛЕЗДЕ.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ункцијом штитасте жлезде (еутироидна, нетоксична или Струма дифуса симп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мом (нпр. у 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28600" y="1447560"/>
            <a:ext cx="9601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штитасте жлезде у целини уз одсуство нодуса при чему је функција штитасте жлезде нормал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&gt;10% становништва има струму, подручја са недовољном количином Ј (дневне потребе су 100-150µг јода, недостатак јода ако је дневна екскреција Ј урином &lt;10µг/д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 биохемијски поремећаји у синтези тироидних хормона (транспорт јода, синтеза ТГ, органификација Ј), експозиција струмогенима (нпр. тиоцијанати из поврћа - купус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3712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ген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тимулација деобе тиреоцита пу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их концентрација/активности ТСХ (недостатк јода, биохемијски поремећаји, струмогене материје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а имуноглобулина који се везују за ТСХ рецепторе на тиреоцити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371240"/>
            <a:ext cx="9753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ва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мберт-ов знак: погоршање диспнеје код подизања руку, стридо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њак (дисфаг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. 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ренс (промуклос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05280" y="1371240"/>
            <a:ext cx="9906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већ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се запажа само палпац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жа се приликом забацивања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идљива при нормалном положају глав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струма видљива из даљ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Т4, ТС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11430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обично није потребна, терапијске оп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препарат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ј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ендемске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Левотирокс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спорадичне струме (ако је повишен ТСХ, код младих почети са 100µг, а код старијих са 50µ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ако постоје изразити компресивни симпт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odosa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анатом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моноклонско увећање), хиперцелуларност и/или цистична трансформација, хеморагије, фибр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до 12% популације, чешће код жена, инциденца расте са годинама стар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1526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 (нагли бол и увећање сугерише појаву хеморагије у нодус, сумња на малигнит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спираци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биопсиј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анком игл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(uninodosa, pol</a:t>
            </a:r>
            <a:r>
              <a:rPr b="1" i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в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љевог ефек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о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143000"/>
            <a:ext cx="9372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, клиничка слика, дијагностика и ле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е неоплаз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зам калцијума и хормона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дејства и регулација  паратиреоидне фун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и алгоритми за испитивање поремећаја функције пара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з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класифика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етиопатогенеза, клиничка слика, дијагностика и 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ипле ендокрине неоплаз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бактерије, гљивице, радијација након примене Ј131, лекови (амиодаро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захтева примену антибиотика и хируршк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атозно запаљење штитасте жлезде изазвано вируси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есе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28600" y="1447560"/>
            <a:ext cx="96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е, одмо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САИЛ (аспирин 500мг на 6 до 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некад Г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9601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х пацијената), 4-10 пута чешћи код ж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езент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, обично праћен хипо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иедел-ов хронични тиреоидитис, обично праћен еути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 тиреоидитис у склопу М.Гравес, обично праћен хипертиреоид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81240" y="1371240"/>
            <a:ext cx="9829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у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: са струмом; 1Б: без 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мото тип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ни статус. АнтиТПО Аб 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А са струмом; 2Б без струме; 2Ц: транзиторне форме (постпартална хипотиреоза, Х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ип 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М. Граве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А Хипертиреоза: АнтиТСХРАб+; АнтиТПО и АнтиТГ Аб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Б Еутиреоза са супримираним ТСХ. АнтиТСХ–Р Аб 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3Ц Хипотиреоза; Орбитопатија; АнтиТПОАб + или 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орекла Ц-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имарног нееп</a:t>
            </a:r>
            <a:r>
              <a:rPr b="0" lang="sr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елног порек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адено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е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лпа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с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на сцинтиграфији: а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а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, хипофункцијски, 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п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и хиперфункцијски (“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у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жељна 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 за дијагноз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нису 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примират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ати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мњи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мушка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з р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спешна супре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одтипови фоликуларних адено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ВЕНЦИ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бекуларни/солидни (ембрион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фоликуларни (фетал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офоликуларни (симпле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фоликуларни (колоид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ЈАН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јалинизирајући трабекул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коцитни (оксифилни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urtle cel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са папиларном хиперплазиј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ски (токсич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ипични (хиперцелуларни) аден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95480" y="0"/>
            <a:ext cx="9491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МОРФОЛОГ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ге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Ектоп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р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отрофиј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измењена морфоло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т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пла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оплазија (бенигна или малиг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       ФУНК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ер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орм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Хип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Папи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9829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малигни тумори (70%),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и код жена (30-40го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хиостолошки: папиле, псам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ЛГЛ, ређе кости, мозак и плућ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лична прогн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се дијагностиковати путем ФН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опходна ти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кто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Фоликуларни карцином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5-25% од свих малигних неоплазми тиреоиде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код старијих од 40 г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кује фоликуле богате тиреоглобул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апсуле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крвних су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зира у плућа и 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Медуларни карцин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кла Ц ћелија (парафоликуларних ћелиј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г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оналне и вретенасте ћел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ма богата амилои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ски маркер ј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ледни случајеви се јављају заједно са феохромоцитомо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Анапласт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ч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едиферентова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5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: Џиновске ћ.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сте ћ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Саркоматои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изг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рије ж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 и смртонос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малих 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је у питању лимф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имфоми тироиде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добро диферентован Б-ћелијски ти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ружен са аутоимунским тиреоидитис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није називан “карцином малих ћелиј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 штитасте жлезд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280" y="997200"/>
            <a:ext cx="8788680" cy="8254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Тип тумор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налаз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метастазе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    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прогно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2215440"/>
            <a:ext cx="9050400" cy="3706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апиле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лич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у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бр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оид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лућ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јетр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пласт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Ца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Гигантске 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семина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лош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Одређивање стадијума тумо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ефи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Т, Н, 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стадију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е категорије могу бити подељене 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а) солит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, (б) мултиф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може бити процењ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знакова присуства примарног тум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2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мање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2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ли мањи 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ц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највећој димензији, локализован у тироиде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&gt; 4 ц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јвећој димензији локализован у тироидеј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е величине са екстратироидн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е.г.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ење на стерноклеидомастоидни мишић или перитироидно меко 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Тумор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их димензија који се шири ван тироидне капсуле и врши инвазију субкутаног меког ткива, ларинкса, трахеје, езофагуса или н.рецурренс-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Тумо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ши инваз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вертеб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ас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каротидне артериј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диасти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 крвних судов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сви анапластични карциноми се класификују као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Т4 тумор</a:t>
            </a:r>
            <a:r>
              <a:rPr b="0" lang="sr-Latn-CS" sz="2400" spc="-1" strike="noStrike">
                <a:solidFill>
                  <a:srgbClr val="3333cc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а Интр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је ресектабил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4б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стратирои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напла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а који је иноперабил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Региона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ни лимфни нодус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Н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имфни нодуси централног компартмана врата, латерални цервикални и горњи медијасти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ЛГЛ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метастаза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стазе у регионалним ЛГ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а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 до 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ВИ (пре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паратрах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е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ге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Л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1б Метас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би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тралатер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ер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горње медијастиналне лимфне ноду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том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физиолог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Удаљене метастаз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(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даљене метастазе се не могу проце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 удаљених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сутне удаљене метаста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чење тироидних карцинома радиоактивним јо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ање преосталог “нормалног” тироидн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арење преосталих канцерогених ће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ција удаљених метаст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изација сензитивности и специфи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еру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743200" y="6297480"/>
            <a:ext cx="6400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36:129-157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457560" y="0"/>
            <a:ext cx="9906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Супресија ТСХ у особа са тироидним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карцином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282600" y="1598760"/>
            <a:ext cx="8556120" cy="4398120"/>
            <a:chOff x="282600" y="1598760"/>
            <a:chExt cx="8556120" cy="4398120"/>
          </a:xfrm>
        </p:grpSpPr>
        <p:sp>
          <p:nvSpPr>
            <p:cNvPr id="147" name="Text Box 4"/>
            <p:cNvSpPr/>
            <p:nvPr/>
          </p:nvSpPr>
          <p:spPr>
            <a:xfrm>
              <a:off x="146232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282600" y="23716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6"/>
            <p:cNvSpPr/>
            <p:nvPr/>
          </p:nvSpPr>
          <p:spPr>
            <a:xfrm flipH="1" flipV="1">
              <a:off x="3159000" y="211788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430280" y="4579920"/>
              <a:ext cx="151128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оид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8"/>
            <p:cNvSpPr/>
            <p:nvPr/>
          </p:nvSpPr>
          <p:spPr>
            <a:xfrm>
              <a:off x="3370680" y="256212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9"/>
            <p:cNvSpPr/>
            <p:nvPr/>
          </p:nvSpPr>
          <p:spPr>
            <a:xfrm>
              <a:off x="728280" y="431496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10"/>
            <p:cNvGrpSpPr/>
            <p:nvPr/>
          </p:nvGrpSpPr>
          <p:grpSpPr>
            <a:xfrm>
              <a:off x="6278400" y="4352760"/>
              <a:ext cx="998640" cy="1322640"/>
              <a:chOff x="6278400" y="4352760"/>
              <a:chExt cx="998640" cy="1322640"/>
            </a:xfrm>
          </p:grpSpPr>
          <p:sp>
            <p:nvSpPr>
              <p:cNvPr id="154" name="Line 11"/>
              <p:cNvSpPr/>
              <p:nvPr/>
            </p:nvSpPr>
            <p:spPr>
              <a:xfrm>
                <a:off x="6286320" y="4352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 flipH="1">
                <a:off x="6278400" y="4379760"/>
                <a:ext cx="990720" cy="1295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3"/>
            <p:cNvSpPr/>
            <p:nvPr/>
          </p:nvSpPr>
          <p:spPr>
            <a:xfrm>
              <a:off x="6274080" y="2209680"/>
              <a:ext cx="1448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Хипофиз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СХ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4"/>
            <p:cNvSpPr/>
            <p:nvPr/>
          </p:nvSpPr>
          <p:spPr>
            <a:xfrm>
              <a:off x="4896000" y="23637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560 h 2666880"/>
                <a:gd name="textAreaBottom" fmla="*/ 193356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5"/>
            <p:cNvSpPr/>
            <p:nvPr/>
          </p:nvSpPr>
          <p:spPr>
            <a:xfrm flipH="1" flipV="1">
              <a:off x="7772400" y="2109960"/>
              <a:ext cx="914400" cy="2666880"/>
            </a:xfrm>
            <a:custGeom>
              <a:avLst/>
              <a:gdLst>
                <a:gd name="textAreaLeft" fmla="*/ 122400 w 914400"/>
                <a:gd name="textAreaRight" fmla="*/ 792000 w 914400"/>
                <a:gd name="textAreaTop" fmla="*/ 466920 h 2666880"/>
                <a:gd name="textAreaBottom" fmla="*/ 193392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6043680" y="4572000"/>
              <a:ext cx="151092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Times New Roman"/>
                </a:rPr>
                <a:t>иреоиде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Т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7984080" y="2554200"/>
              <a:ext cx="273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5341320" y="4307040"/>
              <a:ext cx="339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19"/>
            <p:cNvGrpSpPr/>
            <p:nvPr/>
          </p:nvGrpSpPr>
          <p:grpSpPr>
            <a:xfrm>
              <a:off x="7959240" y="2538360"/>
              <a:ext cx="309600" cy="393840"/>
              <a:chOff x="7959240" y="2538360"/>
              <a:chExt cx="309600" cy="393840"/>
            </a:xfrm>
          </p:grpSpPr>
          <p:sp>
            <p:nvSpPr>
              <p:cNvPr id="163" name="Line 20"/>
              <p:cNvSpPr/>
              <p:nvPr/>
            </p:nvSpPr>
            <p:spPr>
              <a:xfrm>
                <a:off x="7961760" y="253836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21"/>
              <p:cNvSpPr/>
              <p:nvPr/>
            </p:nvSpPr>
            <p:spPr>
              <a:xfrm flipH="1">
                <a:off x="7959240" y="2546280"/>
                <a:ext cx="307080" cy="38592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Text Box 22"/>
            <p:cNvSpPr/>
            <p:nvPr/>
          </p:nvSpPr>
          <p:spPr>
            <a:xfrm>
              <a:off x="1402200" y="1598760"/>
              <a:ext cx="1600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л</a:t>
              </a:r>
              <a:r>
                <a:rPr b="1" lang="sr-Latn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4648320" y="1600200"/>
              <a:ext cx="419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цијенти са тиреоидним Ца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4"/>
            <p:cNvSpPr/>
            <p:nvPr/>
          </p:nvSpPr>
          <p:spPr>
            <a:xfrm>
              <a:off x="6207120" y="2359080"/>
              <a:ext cx="0" cy="6094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25"/>
            <p:cNvSpPr/>
            <p:nvPr/>
          </p:nvSpPr>
          <p:spPr>
            <a:xfrm flipV="1">
              <a:off x="5445000" y="4989600"/>
              <a:ext cx="565200" cy="3045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26"/>
            <p:cNvSpPr/>
            <p:nvPr/>
          </p:nvSpPr>
          <p:spPr>
            <a:xfrm>
              <a:off x="3314520" y="4896000"/>
              <a:ext cx="219240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инимум ЛТ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и се супримирао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С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без изазивања 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реотоксикозе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5410080" y="6172200"/>
            <a:ext cx="373392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Циљан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ТСХ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оком супрес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309400" y="3335400"/>
            <a:ext cx="7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0.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956120" y="3335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-0.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92840" y="3335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1552680" y="2116080"/>
            <a:ext cx="242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изак или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едетактиб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18840" y="2116080"/>
            <a:ext cx="25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упр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иран, али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те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б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ан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7269120" y="2133720"/>
            <a:ext cx="163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ско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4389480" y="4325760"/>
            <a:ext cx="25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ћина пацијената код којих болест није евидентн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557360" y="43466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рсист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цурент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на болес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исок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6918480" y="4329000"/>
            <a:ext cx="210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са врло малим ризиком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Дуго година након операциј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26600" y="3182760"/>
            <a:ext cx="10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H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U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39400" y="474192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цијент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490680" y="3030480"/>
            <a:ext cx="845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5"/>
          <p:cNvSpPr/>
          <p:nvPr/>
        </p:nvSpPr>
        <p:spPr>
          <a:xfrm>
            <a:off x="1557360" y="2573280"/>
            <a:ext cx="0" cy="352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300560" y="2057400"/>
            <a:ext cx="2362320" cy="190512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175280" y="1523880"/>
            <a:ext cx="25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тим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С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0" y="6224760"/>
            <a:ext cx="70102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herman SI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2003;361:501-511.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raverman LE, Utiger RD, eds. </a:t>
            </a:r>
            <a:r>
              <a:rPr b="1" i="1" lang="en-US" sz="800" spc="-1" strike="noStrike">
                <a:solidFill>
                  <a:srgbClr val="000000"/>
                </a:solidFill>
                <a:latin typeface="Times New Roman"/>
              </a:rPr>
              <a:t>Werner &amp; Ingbar’s The Thyroid: A Fundamental and Clinical Tex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 8th ed. Philadelphia, Pa: Lippincott, Williams &amp; Wilkins; 2000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69924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886720" y="55054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685800" y="549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 УЗ праћењ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000160" y="4952880"/>
            <a:ext cx="533520" cy="551160"/>
          </a:xfrm>
          <a:prstGeom prst="downArrow">
            <a:avLst>
              <a:gd name="adj1" fmla="val 50000"/>
              <a:gd name="adj2" fmla="val 258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-228600" y="0"/>
            <a:ext cx="9677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 карцино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– стратегија лечењ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69360" y="290988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г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175360" y="4043520"/>
            <a:ext cx="353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тална тире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40520" y="40384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обоистм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172200" y="2895480"/>
            <a:ext cx="32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ални 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о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45960" y="3124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ризи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2743920" y="13716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тироидног Ц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413240" y="2133720"/>
            <a:ext cx="685800" cy="787320"/>
          </a:xfrm>
          <a:prstGeom prst="downArrow">
            <a:avLst>
              <a:gd name="adj1" fmla="val 50000"/>
              <a:gd name="adj2" fmla="val 287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4"/>
          <p:cNvSpPr/>
          <p:nvPr/>
        </p:nvSpPr>
        <p:spPr>
          <a:xfrm rot="18993600">
            <a:off x="3123720" y="3504960"/>
            <a:ext cx="914400" cy="620640"/>
          </a:xfrm>
          <a:prstGeom prst="leftArrow">
            <a:avLst>
              <a:gd name="adj1" fmla="val 50000"/>
              <a:gd name="adj2" fmla="val 36833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5"/>
          <p:cNvSpPr/>
          <p:nvPr/>
        </p:nvSpPr>
        <p:spPr>
          <a:xfrm flipH="1" rot="2606400">
            <a:off x="5427000" y="3351240"/>
            <a:ext cx="914040" cy="638280"/>
          </a:xfrm>
          <a:prstGeom prst="leftArrow">
            <a:avLst>
              <a:gd name="adj1" fmla="val 50000"/>
              <a:gd name="adj2" fmla="val 358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676520" y="6324480"/>
            <a:ext cx="74674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inder BK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Curr Opin Onco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3;15):71-77. Sherman SI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2003;361:501-511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zzaferri EL, et al.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 2001;86:1447-1463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Стандард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ретм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ироидних карцин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6067440" y="5562720"/>
            <a:ext cx="315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“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Whole Body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сцинт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графiј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Одrеђивaњe ТГ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АнтиT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Г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  <a:ea typeface="Arial"/>
              </a:rPr>
              <a:t> Aб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314240" y="408312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он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94280" y="1568520"/>
            <a:ext cx="27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та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ектом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043600" y="5334120"/>
            <a:ext cx="14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диш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2765880" y="2724120"/>
            <a:ext cx="15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лa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8"/>
          <p:cNvSpPr/>
          <p:nvPr/>
        </p:nvSpPr>
        <p:spPr>
          <a:xfrm rot="7719600">
            <a:off x="6107400" y="4825080"/>
            <a:ext cx="470160" cy="725760"/>
          </a:xfrm>
          <a:prstGeom prst="upArrow">
            <a:avLst>
              <a:gd name="adj1" fmla="val 50000"/>
              <a:gd name="adj2" fmla="val 385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 rot="7719600">
            <a:off x="4013640" y="352944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 rot="7719600">
            <a:off x="2602440" y="246276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0" y="6172200"/>
            <a:ext cx="8763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hen EG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Otolaryngol Clin North 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:129-157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88:1433-1441. Sherman SI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ce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3;361:501-511. 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J Clin Endocrinol Metab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1;86:1447-1463. Mazzaferri EL, et a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ndocr Relat Canc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 2002;9(4):227-247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Ивар Сандстро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веђанин, студент медиц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ткрио параштитасте жлез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ледњи велики орг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ји је идентификован код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атироидни хормо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кретују га главн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штитасте жлезде као протеин сачињен од 84 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ара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81240" y="1295280"/>
            <a:ext cx="9296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: аденом, карцином, хиперплазија ПТЖ (хиперпродукциј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: хронична хипоклациемија (физиолошки одговор - пораст продукције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ерцијал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продукција (ПТХ, ПТХр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ар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резистенција периферних ткива на 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Ц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Хиперкалцием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228960" y="99072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кована порем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јима па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таст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литиј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милијарна хипокалциурична 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алигн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дни тум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нколошк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Суфици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рануломатозне боле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брз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пертире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витамин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ундарни хиперпаратиреоид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апија алумињу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лечно-алкални синд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ХПТ је 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хиперплазија ПТЖ  (спорадично или у оквиру 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457200" y="1219320"/>
            <a:ext cx="9601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хиперкалциемија, хипофосфатемија, хиперкалциурија, снижење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P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пора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хидратација, хиперхлоремијска ацидоза (повећано луче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O3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з задржа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мишићна слабост, анорексија, повраћање, опстипација, скраће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емоционална нестабилност, депресија, псих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убрежни поремећа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концентрациона способност (полиурија, никтурија), уролитија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штани сист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овећа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олитар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и карци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лтип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ен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еоп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секре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води д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фосфатем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иничка слика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депресија сомнолен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Г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943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теријска хипертенз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раћивањ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интерва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пор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активност остеокл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 метаболизам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дукција густине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05280" y="1295280"/>
            <a:ext cx="990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аратироидна кри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гли пораст хиперкалциемије и погоршање општег ст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убрежна слабост због нефрокалци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а, срчани засто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228960" y="137124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г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е вредности серумс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зак или ниско-нормалан фосфат у серуму (смањена реапсорпција у проксималним тубулима), повишен клиренс фосфата, хипомагнеземија, хиперхлоремија, метаболичка ацидо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5(ОH)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орфолошка испит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лтразвучни преглед вр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цинтиграфија ПТЖ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м-тех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 сестами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81240" y="1142640"/>
            <a:ext cx="9753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еркалци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еопороз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-sc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-2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кулоза бубре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Медикаментни третм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докнада 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лакашвање калциурез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уретици Хенлеове пет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на 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ормонска терап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Рал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ф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тостатици: Митрамиц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457560" y="1447560"/>
            <a:ext cx="9829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ХПТ је хиперфункција свих ПТЖ због хроничне хипокалциемије (ПТЖ су примарно нормалне, али временом може доћи до њихове хиперплазиј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 фосфата у акутној или хроничној инсуфицијенцији бубрега (ГФР&lt;40мл/ми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м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ли резистенција ткив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мањење апсорпције калцијума у ГИТ-у (малапсорптивни синдро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екови: лаксативи, фенитоин, фенобарбитон, холестирам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сеудохипопаратире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-228600" y="380880"/>
            <a:ext cx="9906120" cy="66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tra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T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iodothyro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днос секреције Т4:T3  je 15: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и T3 се ослобађају и транспортују везани за серумске     протеине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Globulin (TBG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5 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-Binding Prealbum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BP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bumi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↑ TBG: трудноћа, Е, цироза јетре, хепатитис, порфир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ци ↓TBG: нефротски синдром, хепатична инсуфицијенција, високе дозе ГКС, протеинска малнутрициј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-558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лцификати у меким тк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вра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е на костима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на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иј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омала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ски калцијум и витам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9068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еитис фиброса 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иш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екундарни 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едства која везују 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ституција калцију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његови анало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ти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транскри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г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nacalc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ipa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ерцијални хиперпаратиреоидизам настаје током секундарног хиперпаратиреоидизма и у основи је секундарни хиперпаратиреоидизам који више не реагује на примену ле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тална стимулација хипокалциемијом доводи до хиперплазије ПТЖ, а временом на том терену може да се развије аутономни аден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Терцијални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хипер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28960" y="129528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чешће се развија  након трансплантације бубрега када хипертрофисане ПТЖ настављају са појачаном и неконтролисаном секрециј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ТХ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“тачке избора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Као и секундарни хиперпаратиреоидизам, уз појачање болова у костима и свраба, те појаву слабости и лаког замар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лабораторијски пораст калцијума уз ↑фосф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као и секундарни облик, али може бити индикована и хируршка интервенција (одстрањење аденоматозно измењених ПТЖ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228960" y="1523520"/>
            <a:ext cx="9372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окалциемије и хиперфосфатемије због смањене активности ПТХ збо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е синтез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за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зостанак одговора периферног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екрециј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диопатски обл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ундарни облици: урођени (удружен са ДиГеорге-овим синдромом) или стечени (хируршко одстрањење ПТЖ, зрачење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механизми, инфилтартивне болести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учење биолошки неактивног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гена за ПТХ (артефицијално изазвана хипокалциемија доводи до пораста ПТХ, али без биолошког ефекта, док егзогено дати ПТХ нормализује калциемиј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зистенција периферних ткива на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сеудохипопаратиреоидизам (рецепторски и пострецепторски дефекти): клиничка слика хипопаратиреоидизма уз нормалне вредности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457560" y="1142640"/>
            <a:ext cx="9906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тофиз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: хипокалциемија, хиперфосфатемија, пораст ЦПК и АЛ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и поремећаји: повећана неуромишићна раздражљивост (од парестезија до грчева мишића), продужен QТ интерв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их ткива (интракранијалне, очно сочив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457200" y="12189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а неуроми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ћна раздражљив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парестезије лица у пределу усана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стију, тионичне и болне контракције (“акушерска шака”, карпопедални спазам), грч дијафрагме, псеудо-епилептични напади (очувана свест), настаје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оциран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свакодневним активностима (ходање, рад, хипервент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, стања алкалоз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атент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use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b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ов зн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Chvostek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-ов зн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један од 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нијe, a рe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ји je o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oвaj знaк 1876. (независно oд њeг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228960" y="-360"/>
            <a:ext cx="9372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51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КГ: пролонгиран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Q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инверзан Т талас, АВ б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лцификације меког тк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ракранијалне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h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– базалне ганглиј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20% пацијена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чно сочи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658800"/>
            <a:ext cx="914400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4 се дејодинише на периферији у T3 што чини 80%  T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 метаболит T4 j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3 (rT3) који је метаболички инактива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 улази у ћелије и везује се за групу нуклеарних рецептора, а затим утиче на многе ћелијске метаболичке ф-ј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ћелијски метаболиза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опаратиреоидиз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калцијума, фосфата, магнезијума у серу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ПТ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а дијагноза хипокалцием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мал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нкреатит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ротеин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магнез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бубрежна инсуфицијен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или резистенција на Витамин 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ПОЛИЕНДОКРИНЕ БОЛ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 групу полиендокриних болести спадај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е ендокрине неоплазије (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гландуларни аутоимуни синдроми (ПГА) или синдроми имуноендокринопатиј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62480" y="-360"/>
            <a:ext cx="1074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јава тумора у две или више  ендокриних жлезда назива се мултипла ендокрина неоплазиј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753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УЛТИПЛА ЕНДОКРИНА НЕОПЛАЗИЈ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тражи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прошло је кроз 3 фа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фаза (дескриптивна фаза) у којој су описивана пуна клиничка слика и образац наслеђивање у појединим синдр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 фаза у којој су развијене скрининг технике пре него што се развије пуна клиничка сл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I фаза у којој је изучавана молекуларна и генетичка основа ових синдро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0880" y="5335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главна типа М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, дели се на два подтип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(раније МЕН 3)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ни тип МЕН-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-685800" y="609120"/>
            <a:ext cx="9982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једничке карактеристике МЕН 1 и МЕН 2 с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ви тумори показују хистолошку прогресију од хиперплазије ка аденому и, у неким случајевима, ка карцино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 хиперплазије је мултицентрични процес (сваки фокус води порекло од једног кло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ваки од ових синдрома има АД начин наслеђивањ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-838440" y="914400"/>
            <a:ext cx="10287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п ћелија које су укључене у неопластични процес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тумори су састављени од једног или више типова ћелија које производе специфичне полипептиде и биогене амине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U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ћелије имају заједничко порекло од неуралног гребена и имају нека својства слична неурони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и тумори нису састављени од овог типа ћелија: липоми удружени са МЕН 1 и ганглионеуриноми удружени са МЕН 2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синдроми имају различите механизме туморогенез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изазван наследном мутацијом тумор-супресорног г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 је изазван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о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 се на дугом краку 11 хромозо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ше неке важне аспекте раста, диференцијације или ћелијске смр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оба алела доводи до дисрегулације рас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ЕХАНИ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ЗМИ ТУМОРОГЕНЕЗЕ - МЕН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228960" y="1294920"/>
            <a:ext cx="9753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o-онког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о МЕН 2 синдрома долази активациј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o-онког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ве честе РЕТ мутације активирају тирозин-киназни рецeптор што довoди до дисрегулације раста ћелија које чине основу МЕН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914400" y="0"/>
            <a:ext cx="10591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228960" y="1447560"/>
            <a:ext cx="6629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Т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 или Т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371240"/>
            <a:ext cx="8991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је  асоциј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е или неоплазије (бенигне или малигне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тироидних жлез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рваца панкреас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r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4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80880" y="1447560"/>
            <a:ext cx="952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aтироидиз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острвацa панкреасa: гастрином, инсулином, глукагонoм, ВИП-ом (синдром воденe дијарејe, панкреасна колера), Панкреасни пеpтид (нема клиничке последице, али је користан марке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и хипофизе: пролактином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bus Cus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дукција АЦТХ или ЦРФ), акромегал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45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карционидни тумори, субкутани и висцерални липоми, кутани лејомио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А је асоцијација неоплаз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езд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штитасте жлезде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 запoчињe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ер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oм oдгoвaрajућ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нa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je долази дo н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м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o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e 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ном развијају микроскопски карциноми, а касније макроскоп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80880" y="1371600"/>
            <a:ext cx="9524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 МЕН 2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феохромоци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9880" indent="-268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лазија или аденом паратироидне жлезде (10-35% случај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1280" indent="-2905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chen amyloidosis, M. Hirschprung, struma ovarial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12189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2Б је асоцијаcija неоплазиј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-ћелија штитасте жлe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ржи надбубрега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авa (мултиплих мукозних неурином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Н 2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609840" y="1371240"/>
            <a:ext cx="10134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нифестациј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лтицентрични медуларни карцином штитасте жлезд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нилатерални или билатерални феохромоцито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ђ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нерава: мукозни неуриноми представљају повећану величину и број нерава (лице, субкоњунктивална регија-задебљали корнеални нерви, усне итд.) и дифузна гастроинтестинална ганглионеуроматоза  (пролиферација нервних елемената мијентеричног у субмукозног плексуса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марфаноидни хабитус, пектус ексавату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06440" indent="-290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ги, танки екстремитети ит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34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4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(Синдром преклапaњ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 и MEН 2 са делимичним испољавaњ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eкласификовaни МЕН синдр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МЕШАНИ ОБЛИЦИ МЕН-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la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синдром преклапaњa) укључ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ледeћe варијaнт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арци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 кoм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ван сa МЕН 1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Н 2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o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мор ме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e 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гa са и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без 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e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ид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aстрин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aтoзна пo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к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на и МЕН 2Б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o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ЕН 2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охрoмoцит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Н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Administrator</cp:lastModifiedBy>
  <dcterms:modified xsi:type="dcterms:W3CDTF">2015-08-30T13:19:02Z</dcterms:modified>
  <cp:revision>172</cp:revision>
  <dc:subject/>
  <dc:title>PATOLOŠKA FIZIOLOGIJA ENDOKRINOG SISTEMA</dc:title>
</cp:coreProperties>
</file>