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16C-CFA9-450E-A840-2689E318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D3F-EFD4-4B41-8CCB-8197288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138-E0AB-4683-B8C5-81F34244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4EA-CE12-4B92-8173-559694D2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50B1-F59E-495E-8055-836D4D8F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9AB-9065-4E44-AFE4-B8B151A6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8835-E782-42AD-9B3D-836681C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F74-F32E-4153-ADD8-6A49FD6C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F4B-3FDA-4E4F-9535-6892E17C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398A-09D0-434A-B91F-2DDC270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1171-10BA-49AF-B870-A91B8D6A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FC9-3E99-4A92-95DF-7F365E70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Copyright 2009,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6A60-3ACC-4E87-9014-E4663F5A0A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6040" y="1941480"/>
            <a:ext cx="7772400" cy="16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МЕДИЦИНЕ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А МЕДИЦИНА 2</a:t>
            </a: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КЛИНИЧКИ АСПЕКТИ НЕУРОГЕНЕ РЕГУЛАЦИЈЕ</a:t>
            </a:r>
            <a:br>
              <a:rPr sz="4000"/>
            </a:b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ХИПОФИЗ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34960" y="4247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Виолета Младен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ниста-ендокриноло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Аден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084320"/>
            <a:ext cx="822960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 се ослобађају хормони под утицајем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лобађ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хиби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ју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 ствара хипопатал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с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ктор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тварају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уро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тор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им портним систе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аденохипофизе делују на друге ендокрине системе и зато се назива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роп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аденохипофиз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умани хормон расте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сомат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ид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отроп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утеиниз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ј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секрециј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тропин: 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у гликокортикоида у кори надбубре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ноц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-стимул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зната улога код љу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Неурохипоф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587520" y="963720"/>
            <a:ext cx="973152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 синтетише хормо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ува и ослобађа хормоне које ствара хипоталам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транспортују 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изног т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цин (ОТ)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и након порођаја остварује утицај на утерус и дојку, Појачава контракцију глатких мишићних ћелија у утерус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искивање млека из млечних жлез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идиурe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ормон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зопрес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 количину дефинитивног урина тако што омогућава да бубрези враћају већу количину воде у крв из примарног урина, смањује губитак воде знојењем и доводи до констрикције артериола чиме узрокује пораст крвног прити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с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ПОРЕМЕЋАЈИ  ФУНКЦИЈЕ 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15998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је одговоран за многе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интегративне хомеостатске функције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између аутономног нервног система и ендокриног система су координисане са информацијама из других делова моз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 добија улазне информације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 из неокортекса и лимбичког система, као и из ретикуларног активирајућег систем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293400"/>
            <a:ext cx="880128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ма следеће функциј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температу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ендокрина контрола секреције катехол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волумена телесних те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 осећаја глади и жеђ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сексуалног понаш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гулација раста и разво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брамбене реакције типа страха и б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ола ритма секреције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58920"/>
            <a:ext cx="7772400" cy="57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хипоталамус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ипофизотропни хорм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58920" y="228600"/>
            <a:ext cx="837720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физотропни хормони</a:t>
            </a:r>
            <a:r>
              <a:rPr b="0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лазе у хипоталамо-хипофизеални портни систем и путем крви доспевају до предњег режња хипофизе где испољавају свој ефека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да испоље стимулишући ефекат на аденохипофизу (ослобађајући или 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easing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« хормони) или инхибишући ефекат (инхибирајући хормони).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-360" y="343080"/>
            <a:ext cx="9372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4000" spc="-1" strike="noStrike">
                <a:solidFill>
                  <a:srgbClr val="ff0000"/>
                </a:solidFill>
                <a:latin typeface="Arial"/>
                <a:ea typeface="Arial"/>
              </a:rPr>
              <a:t>Хормони задњег режња 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неурохипофизе) се стварају у хипоталамусу, а до задњег режња хипофизе доспевају на тај начин што »путују«  преко хипоталамо-хипофизеалног тра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ни се депон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на стимулацију секретују из задње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ежња хипофи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13120" y="228240"/>
            <a:ext cx="95662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ДИСФУНКЦИЈА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93760" y="1218960"/>
            <a:ext cx="85881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о-хипофизна осовина регулише многе физиолошке процес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 зато поремећај у њеном раду оставља последице на функцију других ендокриних орга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могу бити ендокрине и не-ендокрине природ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-ендокрини симптоми су често неуролошке природе и удружени су са интракранијалним лезијама и повредама гла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5505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функ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сихијатријски поремећаји и поремећаји понашањ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спавања, поремећаји свести, поремећаји уноса воде, поремећаји понашања итд.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аутономног нервног систе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едем плућа, срчане аритмије, поремећаји сфинктера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регулације метаболиз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оремећаји регулације температуре, поремећаји уноса хране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СИЛАБУ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23640"/>
            <a:ext cx="91440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 и класификациј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ми деловања хорм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аламусни и хипофизни хормони и њихова регул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хипоталамус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лест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асификација 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патогене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стичке процедуре у болестима хипоталамуса и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ипидни дијабете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о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дефиниција, класификација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дефиниција, етиопатогенеза, клиничка слика, дијагностика и лече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ушингова болес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питуитариза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, етиопатогенеза, клиничка слика, дијагностика и лече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59280" y="979200"/>
            <a:ext cx="9502920" cy="55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 или 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БОЛЕСТ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“изолације хипофизе” (лезија сталк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отропних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Синдром “изолације хипофизе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13120" y="880920"/>
            <a:ext cx="9356760" cy="57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стао као последица деструктивних процеса у селарној регији, најчешће у пределу сталка хипоф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вреде главе, хируршке интервенције, тумори и гранул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1f497d"/>
                </a:solidFill>
                <a:latin typeface="Arial"/>
                <a:ea typeface="Arial"/>
              </a:rPr>
              <a:t>Клиничке манифест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 централис (80%)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а се у 3 фазе: иницијална фаза полиурије, фаза нормализације и након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4 дана фаза 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кортизол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ак ФСХ и ЛХ, поремећаји 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ц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ТРХ (недостатак ТСХ и Т3 и Т4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недос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 ГХ), Допамина (губитак инхибиторног ефекта на хипофизу и пораст секреције ПР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12760" y="1240920"/>
            <a:ext cx="8702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ормона хипофизеотропних хипоталамуса може бити изолован (недостаје један хормон) или вишеструк (недостаје више хормо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етски и развојни поремећа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нулом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е мозга (саобраћајни трауматизам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Т и Р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деце и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094040" y="0"/>
            <a:ext cx="1152828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Генетски и развојни поремећаји 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хипоталаму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5040" y="1142640"/>
            <a:ext cx="9509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пто-оптичка дисплазиј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de Morsier, Sy Kallman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Lawrence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Мо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de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d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аутозомно рецесиван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ретардација, гојазност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actili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Freohlich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Адипо-генитална дистрофија): дефици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дефицит Лептин-а или његовог рецептора (централни хипогонадизам, хиперфагија и гојазнос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228960" y="1069920"/>
            <a:ext cx="9372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nRH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најчешћи поремећај) доводи до хипогонадотропног хипогонадизма. Код деце доводи до Пубертас тарда (закаснели пубертет), а код особа након пубертета до хипогонадизма (секундарна аменореја, смањење либида, еректилна дисфункција, и после дуже времена губитак секундарних сексуалних карактеристик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Sy Kallmann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развојни поремећај у к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у удружени поремећај развој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урона хипоталамуса и поремећај развоја олфакторног лобуса. Клиничка презентација: хипогонадотропни хипогонадизам и аносмија/хипоосмија (недостатак/смањен  осећај мириса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1f497d"/>
                </a:solidFill>
                <a:latin typeface="Arial"/>
                <a:ea typeface="Arial"/>
              </a:rPr>
              <a:t>Психогена аменоре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обично транзиторни изостанак менструације због психичког стреса или претеране физичке активности (који доводе до смањења секреци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Дефицит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1158840"/>
            <a:ext cx="94186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Т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централног хипотиреоидизма (хипофизеални хипотиреоидизам). Долази до неадекватне синтезе ТСХ, а због тога и синтезе тироидних хормона (Т3 и Т4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недостатка ГХ (хормона растења). Последица је низак, симетричан раст де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оловани дефицит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снижене синтезе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затим и смањене продукције Кортизол-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Допам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 довешће до повећане продукције ПР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Хиперпролактинем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045080" y="-360"/>
            <a:ext cx="1102212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420920"/>
            <a:ext cx="91440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аs praecox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 пубертет) – настанак физиолошки нормалне функције осовине хипофиза-гонаде пре времена: појава менструационог циклуса код девојчица пре 8 године, а појава сперматогенезе код дечака пре  9 или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хипоталамуса (најчешћ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хамар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407880" y="0"/>
            <a:ext cx="97963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Хиперсекреција хипофизеотропних хорм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140184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повећане продукције ГХ, те до појаве Акромегал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ЦР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води до једног обли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Хипер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зм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оба облика хиперсекреције хипоталаму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хипоталамуса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ћи ганглиоцитом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неопластични синдроми код карцинома бронха и панкеаса (који ектопично продукуј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F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умори хипоталам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228960" y="1077840"/>
            <a:ext cx="937260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раниофарингеом, глиом оптичког нерва,менингеоми, герминоми, хамартоми, тератоми,а компресију могу вршити: грануломи и анеуризме 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ротис и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 р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еће коморе и хидроцефал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ја нервих структура: оптички нерв, хијазма или тракт, урастање у фронт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орални режањ мозг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хипофизеотроп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секреција хипофизеалних хормон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1680" y="537840"/>
            <a:ext cx="844236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и систем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је комплексни систем који одржава стабилном унутрашњу средину упркос потенцијалним поремећа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 који долазе било из спољне било из унутрашње среди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порекла Ратхке-овог шпага, обично полази од сталка хипофизе и шири се супрасела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3-5% свих интракранијал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велики, цистични, понекад калцификовани, локално инвазивни (само 15% је интраселар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5% пацијената има мање од 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тренутку дијагнозе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Краниофарингеом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raniopharingeoma</a:t>
            </a: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294120" y="1044720"/>
            <a:ext cx="98139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ндокрине манифеста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80%): Знаци хидроцефалуса и повећаног интракранијалног притиска (главобоља, повраћањ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едем папиле), поремећаји вида, поремећаји личности, когнитивни поремећаји, гој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е манифест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фицит хормона хипоталамуса и хипофизе (низак раст у деце – нанизам, хипогонадизам, хиперпролакти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анхипопитуитариза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 (увећање селе, калцификације у облику флокула), ЦТ или НМР селарне региј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фун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м папил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Хируршка интервенција (транскранијални или трансфеноидални приступ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р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иди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НЕУ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44080" y="1093320"/>
            <a:ext cx="889956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ОФУН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абетес инсипиду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1f497d"/>
                </a:solidFill>
                <a:uFillTx/>
                <a:latin typeface="Arial"/>
                <a:ea typeface="Arial"/>
              </a:rPr>
              <a:t>ХИПЕРФУНКЦ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неадекватне секреције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drome of inapropriate ADH, SIAD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и/или функ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95400"/>
            <a:ext cx="914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lnSpc>
                <a:spcPct val="90000"/>
              </a:lnSpc>
              <a:spcBef>
                <a:spcPts val="499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недостатка стварања и/или ефекат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доводи до стварања велике запремине урина ниске осмолар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таламус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фрогени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тип: неосетљивост бубрежних каналића н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D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етко обољење, преваленца 1:25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, и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таски, тумори, инфекције, траума, зрачење, инфламациј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7375e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способност концентрисања ур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44720"/>
            <a:ext cx="94219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урија (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 л/дан), никтурија, урин светле боје, полидипсија, хипертона дехидратација (хиперосмоларност, хипернатриемија) уз хипоосмоларни у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на специфична тежина (&lt;1010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моларност (&lt;290мОсм) урина; повећана осмоларност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ест дехидратације (жеђањ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селе турци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Т и НМР селарне ре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Диабетес инсипиду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244800" y="1044720"/>
            <a:ext cx="938844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r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DDVP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нтраназално 10-20 мцг два пута дневно или с.ц. 1-4 мцг дне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орпропамид 200-500 мг дневно и карбамазепин 400-600 мг дневно (за блаже облике – парцијални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азидни диуретици (за периферни  тип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БОЛЕСТ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1337760"/>
            <a:ext cx="91440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суфицијенц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арцијална (изоловани дефицит хормона аденохипофизе - парцијални 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уна (панхипопитуитариза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торни (функционални, доводе до хипер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секреторни (нефункционални, могу довести до хипофункц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имични или потпуни недостатак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↓Секреција хормона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 хормонског испада у хипопитуитариз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GH ►►FSH/LH ►► ТSH ►►А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о испољавање зависи 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 наста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рсте хормона који недост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056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зрок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ypopituitarism-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у склопу других болест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еда гл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утоимуно запаљењ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phys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eehan’s syndr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а мозга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ing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657600" y="1600200"/>
            <a:ext cx="50292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ypopituitar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је често прогресиван. Мада се симптоми и знаци могу појавити изненада, обично се постепено развија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ни су понекад нејас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суптил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 м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гу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е превидети месец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или чак годин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42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НЕРВ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И, ЕНДОКРИНИ И ИМУНСК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177840" y="3584520"/>
            <a:ext cx="2246400" cy="1390680"/>
          </a:xfrm>
          <a:prstGeom prst="rightArrowCallout">
            <a:avLst>
              <a:gd name="adj1" fmla="val 25002"/>
              <a:gd name="adj2" fmla="val 25000"/>
              <a:gd name="adj3" fmla="val 26922"/>
              <a:gd name="adj4" fmla="val 6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РВ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807240" y="3624120"/>
            <a:ext cx="2216160" cy="1432080"/>
          </a:xfrm>
          <a:prstGeom prst="leftArrowCallout">
            <a:avLst>
              <a:gd name="adj1" fmla="val 25002"/>
              <a:gd name="adj2" fmla="val 25000"/>
              <a:gd name="adj3" fmla="val 25792"/>
              <a:gd name="adj4" fmla="val 6667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НДОКР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3824280" y="1631880"/>
            <a:ext cx="1550880" cy="1630440"/>
          </a:xfrm>
          <a:prstGeom prst="downArrowCallout">
            <a:avLst>
              <a:gd name="adj1" fmla="val 25002"/>
              <a:gd name="adj2" fmla="val 25000"/>
              <a:gd name="adj3" fmla="val 17522"/>
              <a:gd name="adj4" fmla="val 6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УН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2397240" y="3260880"/>
            <a:ext cx="4392360" cy="2544480"/>
          </a:xfrm>
          <a:prstGeom prst="plus">
            <a:avLst>
              <a:gd name="adj" fmla="val 12662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државање хомеост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трола раста и разво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епро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маже успостављањ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циркардијалних (дневни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тмова у организ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 И ЗНАЦИ варирају у зависности који од хормона недоста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а толеранција стре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ч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в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тежине или доби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 апет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80880"/>
            <a:ext cx="914400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доминална нелагод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тљивост на хладно или топл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љавост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зуха и стидне дла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ћеност зглоб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омукл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и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ђ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ре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 крв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свес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T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9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збиљан заостатак у рас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спореност мис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психичнос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дношење топл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772400" y="1599840"/>
            <a:ext cx="914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AC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убитак у телесној ма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orex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игм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роз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Л: одсуство постпарталне лакт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200"/>
            </a:b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 ет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6880" y="1905120"/>
            <a:ext cx="881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РОЂЕНИ И РАЗВОЈ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ојна дисфункц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ЕЧЕНИ ПОРЕМЕЋА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pty s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aitarism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4080" y="1878120"/>
            <a:ext cx="8442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аркт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циј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 дефек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е манифестације се споро испољавају и нису јасно видљиве док се не разори 75%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262080" y="947520"/>
            <a:ext cx="940608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концентрисања урина због повећаног АДХ у односу на актуелне потребе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15-30% пацијената који су хоспитализова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тумори (бронхогени карцином), поремећаји ЦНС-а (тумори, инфламација, повреде, крварења), лекови (фенотиазини, трициклични антидепресиви, окситоцин) и болести плућа (инфекције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и патофизиолошки феном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тенција воде са настанком хипотоне хиперхидратације (“тровање водом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6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неуролошке маниф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е: рабдомио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: неспецифичне (главобоља, мучнина), дезорјентација, конфуз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П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пади, фокалне неуролошке манифестациј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Синдром неадекватне секреције АД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26880" y="1322280"/>
            <a:ext cx="947088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смањена осмоларност плазме, хипонатриемија (На&lt; 135мМ, тешка хипонатриемија На&lt;120мМ)), хемодилу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не раде 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: Ртг селе тур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, ЦТ и НМР селарне и других ре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запремине екстрацелуларног волумена (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већан: Рестрикција воде и примена диуре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је Е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смањен: Инфузија изотоног (0.9%) раствор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а (ређе у комбинацији са хипертоним - 10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C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Е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клиничка презентац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566720"/>
            <a:ext cx="914400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ОФУНК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H(S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nismus pituit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gonadismu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S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thyreosis se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corticismus se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oprolactinemi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Nanismus pituit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212760" y="1176120"/>
            <a:ext cx="94917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конгенитални дефекти (септо-оптичка дисплазија) или краниофаринге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зак, симетричан раст, коштана зрелост заостаје за хронолошком, незрело лице, гојаз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невни ритам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пулсатилно лучење у току ноћ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0.10-0.15 иј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М у циљу индукције хипогликем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Ртг шака,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 (свакодневна примена с.ц. Ињекција) 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0.05 мг/к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ditropin-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505320" y="304920"/>
            <a:ext cx="1904760" cy="1409760"/>
          </a:xfrm>
          <a:prstGeom prst="pi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ИПО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429000" y="2143080"/>
            <a:ext cx="2133720" cy="1428840"/>
          </a:xfrm>
          <a:prstGeom prst="plus">
            <a:avLst>
              <a:gd name="adj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505320" y="4000680"/>
            <a:ext cx="2133360" cy="1180800"/>
          </a:xfrm>
          <a:prstGeom prst="beve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ПЕРИФ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429000" y="5638680"/>
            <a:ext cx="2286000" cy="838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ЕЛЕ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343400" y="17524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343400" y="52578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343400" y="365760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 flipH="1" flipV="1">
            <a:off x="1980720" y="152280"/>
            <a:ext cx="1447920" cy="472464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1009080 h 4724640"/>
              <a:gd name="textAreaBottom" fmla="*/ 32580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flipV="1">
            <a:off x="5562720" y="456840"/>
            <a:ext cx="1904760" cy="2666880"/>
          </a:xfrm>
          <a:custGeom>
            <a:avLst/>
            <a:gdLst>
              <a:gd name="textAreaLeft" fmla="*/ 254880 w 1904760"/>
              <a:gd name="textAreaRight" fmla="*/ 1649880 w 1904760"/>
              <a:gd name="textAreaTop" fmla="*/ 569520 h 2666880"/>
              <a:gd name="textAreaBottom" fmla="*/ 1838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3397551"/>
                <a:lnTo>
                  <a:pt x="5850" y="21255"/>
                </a:lnTo>
                <a:lnTo>
                  <a:pt x="0" y="18979"/>
                </a:lnTo>
                <a:lnTo>
                  <a:pt x="5850" y="16012"/>
                </a:lnTo>
                <a:lnTo>
                  <a:pt x="5850" y="18106"/>
                </a:lnTo>
                <a:arcTo wR="21600" hR="9226" stAng="3397551" swAng="-3313476"/>
                <a:lnTo>
                  <a:pt x="21565" y="9753"/>
                </a:lnTo>
                <a:arcTo wR="21600" hR="9226" stAng="-84075" swAng="-5315925"/>
                <a:close/>
              </a:path>
              <a:path fill="darkenLess" w="21600" h="21600">
                <a:moveTo>
                  <a:pt x="0" y="0"/>
                </a:moveTo>
                <a:arcTo wR="21600" hR="9226" stAng="-5400000" swAng="5400000"/>
                <a:lnTo>
                  <a:pt x="21600" y="10281"/>
                </a:lnTo>
                <a:arcTo wR="21600" hR="9226" stAng="0" swAng="-84075"/>
                <a:lnTo>
                  <a:pt x="21565" y="9753"/>
                </a:lnTo>
                <a:arcTo wR="21600" hR="9226" stAng="-84075" swAng="-531592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 flipV="1">
            <a:off x="5715000" y="4114800"/>
            <a:ext cx="1676520" cy="9144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191160 h 914400"/>
              <a:gd name="textAreaBottom" fmla="*/ 6530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3361466"/>
                <a:lnTo>
                  <a:pt x="5850" y="21263"/>
                </a:lnTo>
                <a:lnTo>
                  <a:pt x="0" y="18979"/>
                </a:lnTo>
                <a:lnTo>
                  <a:pt x="5850" y="16020"/>
                </a:lnTo>
                <a:lnTo>
                  <a:pt x="5850" y="17699"/>
                </a:lnTo>
                <a:arcTo wR="21600" hR="9018" stAng="3361466" swAng="-3210733"/>
                <a:lnTo>
                  <a:pt x="21482" y="9961"/>
                </a:lnTo>
                <a:arcTo wR="21600" hR="9018" stAng="-150733" swAng="-5249267"/>
                <a:close/>
              </a:path>
              <a:path fill="darkenLess" w="21600" h="21600">
                <a:moveTo>
                  <a:pt x="0" y="0"/>
                </a:moveTo>
                <a:arcTo wR="21600" hR="9018" stAng="-5400000" swAng="5400000"/>
                <a:lnTo>
                  <a:pt x="21600" y="10903"/>
                </a:lnTo>
                <a:arcTo wR="21600" hR="9018" stAng="0" swAng="-150733"/>
                <a:lnTo>
                  <a:pt x="21482" y="9961"/>
                </a:lnTo>
                <a:arcTo wR="21600" hR="9018" stAng="-150733" swAng="-5249267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28600" y="30492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ДУГ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553080" y="3808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6553080" y="5257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УЛТРАКРАТКА ПОВРАТНА СП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09960" y="0"/>
            <a:ext cx="9812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Дефицит хормона растења у одраслих </a:t>
            </a:r>
            <a:br>
              <a:rPr sz="3600"/>
            </a:b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dult GH deficiency, AGHD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293760" y="1353960"/>
            <a:ext cx="943776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хормона растења код одрасл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штећење хипофизе (постоперативно, пос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ални тип гојазности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фибриногенемиј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Л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остеопенија, депресија (3 пута већ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ризи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ГФ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 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љу индукције хипогликемије), пик ГХ  мањи од 3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интетски хормон растењ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thyreosi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228960" y="1252080"/>
            <a:ext cx="9372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ца: заостајање у ра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асли: клиничка слика блажег хипотироидизма (гојазност, малаксалост, умор, зимогоржљивост, хладна, сува кожа, затвор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Т4, fТ3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yroxi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50-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/дан (претходно искљу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 постојање хипокортицизм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corticismus se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262080" y="1077840"/>
            <a:ext cx="940608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лаксалост, јутарња мучнина, умор, вртоглавица при устајању, хипотенз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, поремећај свести, кома и смр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: Кор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олемија и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Т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, 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drocorti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0мг ујутру,10мг по подн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у случају повишене температуре и стреса, дуплирати доз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pituitarism: FSH &amp; L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enorrh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фертилит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фија дој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Hypogonadismus se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43080" y="1004400"/>
            <a:ext cx="99108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остатак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tar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менореја, диспареунија, инфертилитет, касније смањење дојки, губитак пубичне маљав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мањење либида, сексуална дисфункција, стер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т, касније смањење тестиса и губитак секундарних сексуалних карактерист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адиол/Тестостерон, ФСХ и Л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ЛХРХ те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Леч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естрогенско-прогестеронски препа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r>
              <a:rPr b="1" lang="sr-Latn-CS" sz="28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Депо прерати тестостерона 250м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2-4 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 пуберте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ндукција пул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мпом ХР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СХ/Л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1447920"/>
            <a:ext cx="938844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узроци хипо и хиперпитуитар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Чине око 10% интракранијалних неоплаз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 микро (&lt;10мм) и макроаденоми (&gt;10м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клоналног порекла, аутономне секрециј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 хормони: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, LH, F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лурихормонална секреција: комбинациј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, GH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T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и хормона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гликопротеин (субједин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447920"/>
            <a:ext cx="9453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адич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генетских синдр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: ген МЕНИН (Ту хипофизе, паратироидеја, острваца панкреа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Corney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PKR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А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тачкаста пигментација коже, Ту тестиса, надбубрега и хипофиз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\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McCuneAlbrigh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инактивација ген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лфа (промене на костима и кожи, Ту надбубрега и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Фамилијарна акромегалија: ге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1q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ТУМОРИ АДЕНОХИПОФИЗ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447560"/>
            <a:ext cx="919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ЈСКИ ТУМО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офарингеом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ордоми с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нинге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стиоцитоза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е метастазе (3% пацијената са малигнитет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амартоми и ганглио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лиоми (хипоталамуснии и оптичког нер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5120" y="1601280"/>
            <a:ext cx="8948880" cy="487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поремећаји (због пропагације патолошк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а из 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фталмолошке манифестације (битемпорална хеми и квадрианопсиј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лошке манифестације (диплопија, птоза и офталмоплегија – III, IV и VI кранијални нер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интракранијални притис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хипоталам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езија моз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кринолошке манифестације (хипер- и хипофункција аденохипофиз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ДИСФУНКЦИЈА АДЕНОХИПОФИ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4080" y="1268280"/>
            <a:ext cx="87584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ХИПЕР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ertas praec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thyreosis se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лак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prolactin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omegali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gant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ercorticismus sec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М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h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95120" y="0"/>
            <a:ext cx="979632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МОРФОЛО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то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роф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измењена морф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то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плазија (бенигна или малиг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МЕЋАЈИ       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ер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рм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Хипоф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Hyperprolactinemia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490400"/>
            <a:ext cx="91440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ишен 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кр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лошка поде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ћелија хипофизе које продукују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пролактино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Вишак естроге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имарна хипотиреоз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ренална инсуфициј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олактином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0000, ж:м - 20: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</a:t>
            </a: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тинеми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44720"/>
            <a:ext cx="91440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е, поремећај видног п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ај менструације (олиго до аменореја), инфертилитет, галакт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558ed5"/>
                </a:solidFill>
                <a:latin typeface="Arial"/>
                <a:ea typeface="Arial"/>
              </a:rPr>
              <a:t>♂</a:t>
            </a:r>
            <a:r>
              <a:rPr b="1" lang="en-US" sz="2400" spc="-1" strike="noStrike">
                <a:solidFill>
                  <a:srgbClr val="558ed5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 либида и сексуална дисфун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Arial"/>
                <a:ea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дређивање нивоа ПРЛ у дневном профилу (неколико дана мора да буде без лекова који могу довести 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↑ПР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ласира браунила, одређује се у 8, 11 и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ЦТ је мање сензитив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Хиперпролактинем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1044720"/>
            <a:ext cx="88660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ергици дугог дејства, лечење око 4 год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окрипт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за време оброка, 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25 мг/дан, максимално 15мг/дан (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оз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о препарат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lod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на 4 неде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stinex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еголин (0,5 до 1,0мг, два пута недељно) има добру поднош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nagolide, Pergolide, Lisu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213120" y="1191960"/>
            <a:ext cx="916164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кортикотропних ћелија аденохипофизе који доводи до повећа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последичног хиперкортицизма ( ређе 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узрок 70% од свих случајева хиперкортицизма, 10-15% свих тумора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оноклонално порекло тум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473040" y="691920"/>
            <a:ext cx="96170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шингоид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центрипетална гојазност: специфични депои масти: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al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 торзо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es lun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оремећај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Ц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губитак либида, акне, хипогонадизам (инхибиторни ефекат ГК на пулзатилно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n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агитирана депресија, летаргија, параноја, меморисјка и ког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дисфункција, несан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остеопороза, успорен линеарни раст код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стањена, љубичасте стрије, модрице, пурпура, акне, хирзутизам, плеторично л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лабост проксималне мускулатуре ног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и 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Х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75% оболелих), склоност тромбоемболиз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е/ендокрине 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T, HL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Глауком, егзофталмос, хемозе и катара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rbus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293760" y="1044720"/>
            <a:ext cx="974736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ртизол у 24-часовном урину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 кортизо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супресиони тест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screenin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скодозажни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DEX 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0,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 и високодозаж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X II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/6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2 дана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ст (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 и.в.) доводи до порас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аденома хипофизе, не и код ектопичне продук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феноидално одклањање аденома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случају неуспеха и рецидива, билатерална адреналектомија (повећан ризик од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lso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овог”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аљи раст аденом хипофиз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766800" y="0"/>
            <a:ext cx="1054728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урођени и развој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43440" y="1680840"/>
            <a:ext cx="948708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итуитарна дисплазија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рођајне трауме (асфиксија, церебрална хеморагија, карлична презентација пл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исгенезија септум пеллуцидум-а и цорпус цаллосум-а, мутација ХЕСX 1 (септо-оптичка дисплазиј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а специфичних ткивних фактора: Пит-1 (комбиновани ГХ, ПРЛ и ТСХ дефицит) и Проп-1 (фамилијарни ис течени облик; комбиновани ГХ, ПРЛ, ГнРХ и ТСХ дефиц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9567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ИНСУФИЦИЈЕНЦИЈА АДЕНОХИПОФИЗЕ</a:t>
            </a:r>
            <a:br>
              <a:rPr sz="3600"/>
            </a:b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 стечени поремећа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795320"/>
            <a:ext cx="91440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илтратив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rcoidosi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истио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X, а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оид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хемохромат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нфламаторне болести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БЦ, микотичне инфекције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DS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, терцијални сифил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ранијална ирадијац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арни хипофизитис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трудноћа и постпартално, убрзана СЕ, Тх. Г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поплексија хипофизе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у аденому (нефункцијском), постпартално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 Sheehan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pty sell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хернијација дуре матер, обично нормална функција аденохипофизе, ређе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Секреција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re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убок с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д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из. Активност, стрес, повреда, сеп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а исхра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dopamin, L-argin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omatostatin (SSTR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схрана богата глико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24280" y="2209320"/>
            <a:ext cx="4191120" cy="96228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рталитет код нелечених пацијената је 2 - 4 пута већи у односу на здраву попула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ивотни век у просеку краћи за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0% нелечених пацијената неће 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вети 60. год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9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Ризици акромегал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  <a:ea typeface="Arial"/>
              </a:rPr>
              <a:t>БАЗАЛНИ СТАТУ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306440"/>
            <a:ext cx="576432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Обрасци лучења 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ција хормона није равно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а током времена, већ постоје одређење правил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Пулсатилност у секрециј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(инсулин, 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LH, FSH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Ритм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чнос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т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 у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екрeц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ј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e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и рит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PRL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, Кортизo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есeчни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eстроген, прогестeroн, FSH, L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Годиш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м (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TSH, T4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Секрeција у посeбн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м 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с</a:t>
            </a:r>
            <a:r>
              <a:rPr b="0" lang="sl-SI" sz="2400" spc="-1" strike="noStrike">
                <a:solidFill>
                  <a:srgbClr val="4f81bd"/>
                </a:solidFill>
                <a:latin typeface="Arial"/>
                <a:ea typeface="Arial"/>
              </a:rPr>
              <a:t>тaњ</a:t>
            </a: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Arial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ес, трудноћа, пубертет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195120" y="1044720"/>
            <a:ext cx="979632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болест која настаје као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одраслих (након затварања епифизеалних пукотина)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игант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последица хиперсекрециј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д млади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пидемиолог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превал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лион становника, инциденција 3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 милион станов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Етиопатоген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м хипофизе (99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&lt;1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750960" y="0"/>
            <a:ext cx="1017288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Ефекти хиперсекреције 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GH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 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Гигант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као последица секре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детињ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пубертету се затварају епифизне пукотине и дуге кости остају неосетљиве на 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аке, стопала и кости лица остај осетљиве и после пубертета, тако да настављају да расту и доводе до настанка специфичног хабит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09600" y="1044720"/>
            <a:ext cx="978048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инапарентан ток у дузем пери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дијагностикује након 10-ак година трајања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облика ли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упраорбитални лук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 носа и уш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ромегаличан аспек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масна и груба кожа лица, изражени набори изнад очију (фронтални синуси), истурена доња ви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прогнациј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проширени интердентални прос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дијастема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макроглосија, дубок глас, појачано знојење, артропатија, увећање акралних делова тела (нос, уши, стопала, шаке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задебљање дисталних фалан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чки поремећаји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M2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Висце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40472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омегалија: кардиомиопатија, хепатомегалиј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рдиомега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%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Б, ХЛК, дијастолна дисф-ја, Х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рогло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тироиде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С: опструкција горњег РТ с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eep apne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, дубок и промукао глас (задебљање меких 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кривена болест познатог лиц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има добру прогнозу ако се открије на в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13120" y="604800"/>
            <a:ext cx="909468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гните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пи коло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1/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), тумори једњак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луца, меланом, лимф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ндокринопат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због ефек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механичког притиска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ролакти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 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20% (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рагулаторни хормон инсулину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G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– 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гонадиз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кортиц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 и/или пот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92400" y="404280"/>
            <a:ext cx="95360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патија и артропа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неуропатија и парестез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 на к. М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ну или к. Корене због пораста костију, киф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окални ефекти на хипофизу (ефекти масе тумо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, поремећаји вида, хипопитуитаризам, риноре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хидроза и масна коза (знак активности болести), хипертрихоза, акне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canthosis nigr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Гигантизам и Акромегал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09600" y="1044720"/>
            <a:ext cx="9453600" cy="53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1f497d"/>
                </a:solidFill>
                <a:latin typeface="Arial"/>
                <a:ea typeface="Arial"/>
              </a:rPr>
              <a:t>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аз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↑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ниво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није поздан због пулсатилног лучењ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хиперПРЛ, хипопитуитари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намски 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изостанак супресије ниво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током ОГТ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НМР 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тумор не верификује, хиперпроду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зе бити узрокована у оквиру паранеопластичног синдр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топична секре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HR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лућа и панкреас би требало прво експлорис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639720"/>
            <a:ext cx="9520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  <a:ea typeface="Arial"/>
              </a:rPr>
              <a:t>   </a:t>
            </a:r>
            <a:r>
              <a:rPr b="1" lang="sr-Latn-CS" sz="2800" spc="-1" strike="noStrike">
                <a:solidFill>
                  <a:srgbClr val="1f497d"/>
                </a:solidFill>
                <a:latin typeface="Arial"/>
                <a:ea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љ је нормализација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GF-1/GH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клањање тумора и очување резерве осталих хормона адено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и: трансфеноидална екстирпација ту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мисија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4 – 76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80% микроаденома, 40% макраденома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И код коморбидитета, ниво хормона се најчешће не врати у норма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иотерапија (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ma knif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спор ефекат, хипопит. 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&gt;6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очнох нерва, ризик од сек. малигн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н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отрајни аналози соматоста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ктреотид (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м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.м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4 недеље) и лантрео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cond-li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агонисти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мкрипт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тагони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egvisoma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налози соматостат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126800"/>
            <a:ext cx="9509040" cy="53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у 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STR 2 i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. На површини соматотропних ћел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имирају секре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главобољу и увећање меких 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у величину ту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40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0 – 7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та јачи ефекат од природног 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k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а 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20-60m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Lant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0-90m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ељ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asireoti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шири спектар, делује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SSTR 1,2,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 терапије: ГИТ, калкулоза В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а има 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86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кспресију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st-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22480" y="277920"/>
            <a:ext cx="93661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Динамски тестови у ендокринолог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имулац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о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пресијски тесто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је суспе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 хиперфункц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ивање нивоа лезије (примарни, секундарни терцијал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3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  <a:ea typeface="Arial"/>
              </a:rPr>
              <a:t>Хипоталамус и хипоф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70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таламус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главна веза између ендокриног и нерв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а је спојена са хипоталамусом уз помоћ инфудибул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из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н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ери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 део хипоф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поф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Aleksandar</dc:creator>
  <dc:description/>
  <dc:language>en-US</dc:language>
  <cp:lastModifiedBy>Administrator</cp:lastModifiedBy>
  <cp:lastPrinted>2009-04-22T19:24:48Z</cp:lastPrinted>
  <dcterms:modified xsi:type="dcterms:W3CDTF">2015-08-30T13:18:14Z</dcterms:modified>
  <cp:revision>2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